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999B-A82D-4945-85D9-0604CD4E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F6C-5FAA-4561-BCB0-8735C378E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007-07DF-46F5-AE80-897ADAC7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674-B905-4548-94EF-28777155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5EA-4344-4380-AFB0-0604F36B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E9B-7DD6-4AD7-91EC-919B639A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9A50-5D8C-4319-9744-2557B552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487D-EB8F-41AA-87A3-44BEEC27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CC6-CD0C-46C4-9931-0044D266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B411-88B9-49C2-B2B7-0AD0AACB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8E51-7E1C-47DF-821D-C8AB6AA6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8E59-43E7-4436-B800-461BDEAD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4115-5469-4AA2-942E-AE1075CF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D38-C5A1-4712-8913-89752EB1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4EDF-2693-453A-BE7E-3C6B0C5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CDC3-3AD4-4D71-A578-779AFDC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918F-231F-4B58-AB09-D82C6510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B5A5-E67A-4065-8E0F-519B6B08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4EFB-2DFA-4521-ACD0-8EA5E51C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7C8-E5CC-4328-8EEA-5AE8BB96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F63-3DE7-4A64-BDEA-765AE93E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E9C-C361-4370-A139-515E7346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124-9233-415C-9EBB-8C1550A1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E533-EAD7-4E2C-99B8-A4FDE5C2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C43-743B-44F1-938D-B43C4062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888-9D6B-44EB-8B4C-9A101473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8254-1B28-4627-81B1-846F74C597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818D-B9D9-4703-8700-48B79650490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990720" y="228600"/>
            <a:ext cx="7619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4597a0"/>
                </a:solidFill>
                <a:latin typeface="Arial"/>
              </a:rPr>
              <a:t>Titulo: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anejo de las arribazones de </a:t>
            </a:r>
            <a:r>
              <a:rPr b="1" i="1" lang="es-ES" sz="2400" spc="-1" strike="noStrike">
                <a:solidFill>
                  <a:srgbClr val="000000"/>
                </a:solidFill>
                <a:latin typeface="Verdana"/>
              </a:rPr>
              <a:t>Sargassum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para su aprovechamiento en países del Gran Cari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1 CuadroTexto"/>
          <p:cNvSpPr/>
          <p:nvPr/>
        </p:nvSpPr>
        <p:spPr>
          <a:xfrm>
            <a:off x="2211480" y="1685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OCIACIÓN DE ESTADOS DEL CARIBE (AE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2 CuadroTexto"/>
          <p:cNvSpPr/>
          <p:nvPr/>
        </p:nvSpPr>
        <p:spPr>
          <a:xfrm>
            <a:off x="434520" y="4973760"/>
            <a:ext cx="42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49393"/>
                </a:solidFill>
                <a:latin typeface="Arial"/>
              </a:rPr>
              <a:t>Instituciones participant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3 CuadroTexto"/>
          <p:cNvSpPr/>
          <p:nvPr/>
        </p:nvSpPr>
        <p:spPr>
          <a:xfrm>
            <a:off x="415800" y="5435640"/>
            <a:ext cx="764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tituto de Ciencias del Mar, ICIMAR, AMA, CITMA, Cu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entro de Investigaciones Marinas, CIM-UH, MES, Cu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as instituciones de países de la región del Carib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52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6666"/>
                </a:solidFill>
                <a:latin typeface="Arial"/>
              </a:rPr>
              <a:t>Resultados esperad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2 CuadroTexto"/>
          <p:cNvSpPr/>
          <p:nvPr/>
        </p:nvSpPr>
        <p:spPr>
          <a:xfrm>
            <a:off x="838080" y="1523880"/>
            <a:ext cx="8001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eado un grupo de investigación en el área del Caribe con enfoque multidisciplinario para el manejo y aprovechamiento sostenible de las arribazones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argassu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blecido un Sistema de Alerta Temprana para la detección y pronóstico de estas arribazones en el Carib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valuadas metodologías para la recogida sostenible de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argassu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ocumentadas las propiedades bioactivas de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argassu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que arriba a las costas del Caribe y determinadas sus potencialidades de uso por los países de est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ortalecidas las capacidades institucionales y de formación de recursos humanos en la región relacionada al manejo del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argassum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2 CuadroTexto"/>
          <p:cNvSpPr/>
          <p:nvPr/>
        </p:nvSpPr>
        <p:spPr>
          <a:xfrm>
            <a:off x="1062000" y="380880"/>
            <a:ext cx="792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omic Sans MS"/>
              </a:rPr>
              <a:t>Sargazo,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acroalga parda de zonas tropicales y subtropicales perteneciente al género </a:t>
            </a:r>
            <a:r>
              <a:rPr b="0" i="1" lang="es-ES" sz="2000" spc="-1" strike="noStrike">
                <a:solidFill>
                  <a:srgbClr val="33cccc"/>
                </a:solidFill>
                <a:latin typeface="Comic Sans MS"/>
              </a:rPr>
              <a:t>Sargassum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2600" y="4908600"/>
            <a:ext cx="87552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Impactos negativos:  </a:t>
            </a:r>
            <a:r>
              <a:rPr b="1" lang="es-ES" sz="2000" spc="-1" strike="noStrike">
                <a:solidFill>
                  <a:srgbClr val="5b9898"/>
                </a:solidFill>
                <a:latin typeface="Arial"/>
              </a:rPr>
              <a:t>recubrimiento y erosión  de play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9898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5b9898"/>
                </a:solidFill>
                <a:latin typeface="Arial"/>
              </a:rPr>
              <a:t>putrefacción de biomasa de </a:t>
            </a:r>
            <a:r>
              <a:rPr b="1" i="1" lang="es-ES" sz="2000" spc="-1" strike="noStrike">
                <a:solidFill>
                  <a:srgbClr val="5b9898"/>
                </a:solidFill>
                <a:latin typeface="Arial"/>
              </a:rPr>
              <a:t>Sargassum 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9898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5b9898"/>
                </a:solidFill>
                <a:latin typeface="Arial"/>
              </a:rPr>
              <a:t>cambios de coloración en las costa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9898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5b9898"/>
                </a:solidFill>
                <a:latin typeface="Arial"/>
              </a:rPr>
              <a:t>detrimento de la pesca, turismo, salud pobl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6 Rectángulo"/>
          <p:cNvSpPr/>
          <p:nvPr/>
        </p:nvSpPr>
        <p:spPr>
          <a:xfrm>
            <a:off x="1030320" y="1697040"/>
            <a:ext cx="765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u desprendimiento en el atlántico norte es un acontecimiento natural periódico, </a:t>
            </a:r>
            <a:r>
              <a:rPr b="1" i="1" lang="es-ES" sz="2000" spc="-1" strike="noStrike">
                <a:solidFill>
                  <a:srgbClr val="5b9898"/>
                </a:solidFill>
                <a:latin typeface="Comic Sans MS"/>
              </a:rPr>
              <a:t>volúmenes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no previstos con cambios en la</a:t>
            </a:r>
            <a:r>
              <a:rPr b="1" i="1" lang="es-ES" sz="2000" spc="-1" strike="noStrike">
                <a:solidFill>
                  <a:srgbClr val="5b9898"/>
                </a:solidFill>
                <a:latin typeface="Comic Sans MS"/>
              </a:rPr>
              <a:t> época del añ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omenzaron a arribar a las costas del Carib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57240" y="2987640"/>
            <a:ext cx="3481560" cy="208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 rot="346800">
            <a:off x="4906800" y="2889360"/>
            <a:ext cx="35132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6 CuadroTexto"/>
          <p:cNvSpPr/>
          <p:nvPr/>
        </p:nvSpPr>
        <p:spPr>
          <a:xfrm>
            <a:off x="-19080" y="5127480"/>
            <a:ext cx="9163080" cy="3700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-19080" y="5207040"/>
            <a:ext cx="3371760" cy="1650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Users\ASUS01\Desktop\Sargazo-1.jpg"/>
          <p:cNvPicPr/>
          <p:nvPr/>
        </p:nvPicPr>
        <p:blipFill>
          <a:blip r:embed="rId2"/>
          <a:stretch/>
        </p:blipFill>
        <p:spPr>
          <a:xfrm>
            <a:off x="5943600" y="5207040"/>
            <a:ext cx="3200400" cy="1681200"/>
          </a:xfrm>
          <a:prstGeom prst="rect">
            <a:avLst/>
          </a:prstGeom>
          <a:ln w="0">
            <a:noFill/>
          </a:ln>
        </p:spPr>
      </p:pic>
      <p:sp>
        <p:nvSpPr>
          <p:cNvPr id="110" name="2 Rectángulo"/>
          <p:cNvSpPr/>
          <p:nvPr/>
        </p:nvSpPr>
        <p:spPr>
          <a:xfrm>
            <a:off x="1447920" y="83664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5b9898"/>
                </a:solidFill>
                <a:latin typeface="Comic Sans MS"/>
              </a:rPr>
              <a:t>Retos para la región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167616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5b9898"/>
                </a:solidFill>
                <a:latin typeface="Comic Sans MS"/>
              </a:rPr>
              <a:t>Por un lado,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se precisa contrarrestar los impactos  negativos de las arribazones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5b9898"/>
                </a:solidFill>
                <a:latin typeface="Comic Sans MS"/>
              </a:rPr>
              <a:t>Por otro, Sargazo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 refugio y alimento para especies en peligro de extinción, y otras comercialmente importantes,  es alimento de las playas y un elemento importante de la estabilidad de la costa 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s-ES" sz="1400" spc="-1" strike="noStrike">
                <a:solidFill>
                  <a:srgbClr val="000000"/>
                </a:solidFill>
                <a:latin typeface="Comic Sans MS"/>
              </a:rPr>
              <a:t>Doyle y Franks, 2015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olíticas claras sobre </a:t>
            </a:r>
            <a:r>
              <a:rPr b="0" lang="es-ES" sz="1800" spc="-1" strike="noStrike">
                <a:solidFill>
                  <a:srgbClr val="8ab9b9"/>
                </a:solidFill>
                <a:latin typeface="Comic Sans MS"/>
              </a:rPr>
              <a:t>dónde, cuándo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s-ES" sz="1800" spc="-1" strike="noStrike">
                <a:solidFill>
                  <a:srgbClr val="8ab9b9"/>
                </a:solidFill>
                <a:latin typeface="Comic Sans MS"/>
              </a:rPr>
              <a:t> cómo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aprovechar el </a:t>
            </a:r>
            <a:r>
              <a:rPr b="1" i="1" lang="es-ES" sz="1800" spc="-1" strike="noStrike">
                <a:solidFill>
                  <a:srgbClr val="8ab9b9"/>
                </a:solidFill>
                <a:latin typeface="Comic Sans MS"/>
              </a:rPr>
              <a:t>Sargaz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3048120" y="5207040"/>
            <a:ext cx="31240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6666"/>
                </a:solidFill>
                <a:latin typeface="Comic Sans MS"/>
              </a:rPr>
              <a:t>Algas marinas en beneficio del hombre,</a:t>
            </a:r>
            <a:r>
              <a:rPr b="0" lang="es-ES" sz="28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Comic Sans MS"/>
              </a:rPr>
              <a:t>se trata de aprovechar las propiedades naturales que ofrece esta macroalga.</a:t>
            </a:r>
            <a:r>
              <a:rPr b="1" i="1" lang="es-ES" sz="24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ablecimiento de </a:t>
            </a:r>
            <a:r>
              <a:rPr b="0" lang="es-ES" sz="1800" spc="-1" strike="noStrike">
                <a:solidFill>
                  <a:srgbClr val="33cccc"/>
                </a:solidFill>
                <a:latin typeface="Comic Sans MS"/>
              </a:rPr>
              <a:t>sistemas de alertas temprana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que permitan a tiempo la contención, recogida y aprovechamiento de los arribaz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onocimiento acerca de las </a:t>
            </a:r>
            <a:r>
              <a:rPr b="0" lang="es-ES" sz="1800" spc="-1" strike="noStrike">
                <a:solidFill>
                  <a:srgbClr val="33cccc"/>
                </a:solidFill>
                <a:latin typeface="Comic Sans MS"/>
              </a:rPr>
              <a:t>potencialidades de us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, incentiva el interés para la creación de capacidades de gestión y valorización de las arribazones de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Sargassu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xplotación industrial favorida a partir de la </a:t>
            </a:r>
            <a:r>
              <a:rPr b="0" lang="es-ES" sz="1800" spc="-1" strike="noStrike">
                <a:solidFill>
                  <a:srgbClr val="33cccc"/>
                </a:solidFill>
                <a:latin typeface="Comic Sans MS"/>
              </a:rPr>
              <a:t>caracterización químico-biológica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de la biomasa proveniente de las arribazones en las zonas afectad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ercambiar experiencias y desarrollar investigaciones conjuntas sustentadas sobre sólidas bases científicas, que permitan implementar nuevas soluciones para </a:t>
            </a:r>
            <a:r>
              <a:rPr b="0" lang="es-ES" sz="1800" spc="-1" strike="noStrike">
                <a:solidFill>
                  <a:srgbClr val="33cccc"/>
                </a:solidFill>
                <a:latin typeface="Comic Sans MS"/>
              </a:rPr>
              <a:t>contrarrestar de manera integrada el impacto negativo de los arribazones a partir de su manejo y uso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en beneficio de los pobladores de la reg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413712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8393c"/>
                </a:solidFill>
                <a:latin typeface="Arial"/>
              </a:rPr>
              <a:t>Objetivo Gener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900" spc="-1" strike="noStrike">
                <a:solidFill>
                  <a:srgbClr val="000000"/>
                </a:solidFill>
                <a:latin typeface="Verdana"/>
              </a:rPr>
              <a:t>Contribuir al manejo de los arribazones de Sargassum que afectan a la región del Caribe a través del aprovechamiento de sus potencialidades bioactiva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2895480" y="4572000"/>
            <a:ext cx="64008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8393c"/>
                </a:solidFill>
                <a:latin typeface="Arial"/>
              </a:rPr>
              <a:t>Objetivos Específic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Diseñar e implementar un Sistema de Alerta Temprana para el pronóstico de las arribazones de Sargassum en el área del Carib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Evaluar las potencialidades de uso del Sargassum que arriba a las costas del Carib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Evaluar tecnologías para la recogida y aprovechamiento de las arribazones de Sargass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Fortalecer capacidades institucionales y formación de recursos humanos en la región relacionada con el manejo del Sargassum en el Carib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18393c"/>
                </a:solidFill>
                <a:latin typeface="Arial"/>
              </a:rPr>
              <a:t>Objetivos Estratégic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Contribuir a reducir el impacto negativo de los arribazones de Sargassum en las zonas costeras de la región a partir de aprovechamiento de sus potencialidad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Ampliar la capacitación y educación en la región acerca de los usos potenciales del Sargassum en beneficio de sus pobl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Contribuir a fortalecer las relaciones entre los Estados caribeños en el enfrentamiento a problemas comunes que afectan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5486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262673"/>
                </a:solidFill>
                <a:latin typeface="Comic Sans MS"/>
              </a:rPr>
              <a:t>Tareas a desarrolla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cc"/>
                </a:solidFill>
                <a:latin typeface="Comic Sans MS"/>
              </a:rPr>
              <a:t>COMPONENTE 1: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stablecimiento de un grupo de investigación en el área con enfoque multidisciplinario para el manejo y aprovechamiento de las arribazones de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Sargassu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existente en el Carib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cc"/>
                </a:solidFill>
                <a:latin typeface="Comic Sans MS"/>
              </a:rPr>
              <a:t>COMPONENTE 2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Creación de capacidades institucionales y recursos humanos para el manejo de las arribazones de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Sargassu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cc"/>
                </a:solidFill>
                <a:latin typeface="Comic Sans MS"/>
              </a:rPr>
              <a:t>COMPONENTE 3.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valuación y desarrollo de metodologías para el manejo sostenible de las especies de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Sargassum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que arriban al Carib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cc"/>
                </a:solidFill>
                <a:latin typeface="Comic Sans MS"/>
              </a:rPr>
              <a:t>COMPONENTE 4.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egración y socialización de los resultados del proyecto para contribuir al aprovechamiento del arribazón de </a:t>
            </a:r>
            <a:r>
              <a:rPr b="0" i="1" lang="es-ES" sz="1800" spc="-1" strike="noStrike">
                <a:solidFill>
                  <a:srgbClr val="000000"/>
                </a:solidFill>
                <a:latin typeface="Comic Sans MS"/>
              </a:rPr>
              <a:t>Sargassum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en función del bienestar de sus poblado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3724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6666"/>
                </a:solidFill>
                <a:latin typeface="Arial"/>
              </a:rPr>
              <a:t>Fondos solicitado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00200" y="1600200"/>
          <a:ext cx="6172200" cy="4191120"/>
        </p:xfrm>
        <a:graphic>
          <a:graphicData uri="http://schemas.openxmlformats.org/drawingml/2006/table">
            <a:tbl>
              <a:tblPr/>
              <a:tblGrid>
                <a:gridCol w="3635280"/>
                <a:gridCol w="2536920"/>
              </a:tblGrid>
              <a:tr h="571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omponent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omponent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675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omponent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65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omponent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ostos de coordin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0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228600" indent="-22860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965 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6" name="2 Marcador de contenido"/>
          <p:cNvSpPr/>
          <p:nvPr/>
        </p:nvSpPr>
        <p:spPr>
          <a:xfrm>
            <a:off x="304920" y="59436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uración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añ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rmacologia</dc:creator>
  <dc:description/>
  <dc:language>en-US</dc:language>
  <cp:lastModifiedBy>Robertico</cp:lastModifiedBy>
  <dcterms:modified xsi:type="dcterms:W3CDTF">2017-03-06T14:26:44Z</dcterms:modified>
  <cp:revision>3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