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708-F896-44DB-AEDF-9770BE1393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DAEB-BDF6-47A3-A3B7-2C75D31D2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B950-90A7-43A6-A2CE-A4913265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EA61-1A8C-4064-947C-0457F08B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29E-D984-46B3-91C7-ADA80C24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In our projects we promote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</a:rPr>
              <a:t>clustering supports around the specific needs of women entrepreneurs. M</a:t>
            </a: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anagement training alone may not work for all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For populations facing multiple barriers, due to poverty, race, disability, more holistic approaches can lead to greater empowerment returns as women build multiple assets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2D63-E76F-4C61-B1C8-51D7BAAD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2B65-97CC-4F1E-9F46-C8E509D7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A2B-93BA-4ABE-BA69-F804C055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085-1356-458F-A55C-6C7FACFF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F28-9C9D-4B73-AF07-B1B94AAE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74D-3266-475F-9A4A-EFF8BE41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2A48-CFCA-4F83-BEFF-40D0FF1D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AF6-228C-44F2-A288-1CC243B00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441-5D25-4C99-8E00-721A373E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488-2FF7-4E4E-9CC8-239FD38D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CB9-9977-4381-9935-40CD589A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5A8-51EF-4867-883A-A77A9892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763-DE49-491D-B6AA-3F64DB76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4661-7CF3-4524-8F59-794791D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23C-2410-42F2-8BAC-AEA589C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77D0-447F-4CBC-8309-F4E3A15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1EDC-D9DF-4A3F-AE0C-45A232CE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FB9-882D-47FF-88A3-4BFA2D5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4E39-5AEA-4CD8-B4AE-F4FE64F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8D3-DFE3-4E60-951E-3834244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9FEE-9207-4193-80CB-577DC2C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D00B-605D-443E-8AC4-533F3D1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5ED3-B607-4DB7-BEB9-928594B6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9F5-6E54-4540-8949-92B206BD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625-46F4-4C5C-8607-3609B2B0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615-03F7-47ED-A5F6-A8D1F543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65D-4AFE-4D61-899F-1894BED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60C-E248-4DD1-AE96-80E9E32C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9D0-C038-4F90-AA11-0D4A1055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A59-4F10-46CB-9E67-3B8A3AE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F64-92ED-4BD8-852C-B217A5E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5F2-8BB7-489D-AFF3-80E2E27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D079-BF38-45D3-963B-9A364A697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6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WED_logo"/>
          <p:cNvPicPr/>
          <p:nvPr/>
        </p:nvPicPr>
        <p:blipFill>
          <a:blip r:embed="rId5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" descr=""/>
          <p:cNvPicPr/>
          <p:nvPr/>
        </p:nvPicPr>
        <p:blipFill>
          <a:blip r:embed="rId6"/>
          <a:srcRect l="0" t="0" r="0" b="-46269"/>
          <a:stretch/>
        </p:blipFill>
        <p:spPr>
          <a:xfrm>
            <a:off x="684360" y="714240"/>
            <a:ext cx="8459640" cy="572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" descr=""/>
          <p:cNvPicPr/>
          <p:nvPr/>
        </p:nvPicPr>
        <p:blipFill>
          <a:blip r:embed="rId7"/>
          <a:srcRect l="0" t="0" r="0" b="-46269"/>
          <a:stretch/>
        </p:blipFill>
        <p:spPr>
          <a:xfrm>
            <a:off x="0" y="701640"/>
            <a:ext cx="468360" cy="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944D-2620-40DE-B74C-F7903386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hyperlink" Target="http://www.ilo.org/wed" TargetMode="External"/><Relationship Id="rId5" Type="http://schemas.openxmlformats.org/officeDocument/2006/relationships/hyperlink" Target="http://www.ilo.org/w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o.org/WED" TargetMode="External"/><Relationship Id="rId2" Type="http://schemas.openxmlformats.org/officeDocument/2006/relationships/hyperlink" Target="mailto:SIMPSON@ILO.ORG" TargetMode="External"/><Relationship Id="rId3" Type="http://schemas.openxmlformats.org/officeDocument/2006/relationships/hyperlink" Target="mailto:ROSELOSADA@ILO.OR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rochure_rodape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WED_logo"/>
          <p:cNvPicPr/>
          <p:nvPr/>
        </p:nvPicPr>
        <p:blipFill>
          <a:blip r:embed="rId2"/>
          <a:stretch/>
        </p:blipFill>
        <p:spPr>
          <a:xfrm>
            <a:off x="2428920" y="969840"/>
            <a:ext cx="4214880" cy="174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43200" y="3143160"/>
            <a:ext cx="1800360" cy="1800360"/>
          </a:xfrm>
          <a:prstGeom prst="rect">
            <a:avLst/>
          </a:prstGeom>
          <a:noFill/>
          <a:ln w="9360">
            <a:solidFill>
              <a:srgbClr val="b3c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_2053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18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57600" y="3843360"/>
            <a:ext cx="1800360" cy="1800360"/>
          </a:xfrm>
          <a:prstGeom prst="rect">
            <a:avLst/>
          </a:prstGeom>
          <a:noFill/>
          <a:ln w="9360">
            <a:solidFill>
              <a:srgbClr val="f8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:\EMP_SEED\WED (current)\Photos\6.jpg"/>
          <p:cNvPicPr/>
          <p:nvPr/>
        </p:nvPicPr>
        <p:blipFill>
          <a:blip r:embed="rId4"/>
          <a:stretch/>
        </p:blipFill>
        <p:spPr>
          <a:xfrm>
            <a:off x="857160" y="3929040"/>
            <a:ext cx="2681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343320" y="4343400"/>
            <a:ext cx="1800360" cy="1800360"/>
          </a:xfrm>
          <a:prstGeom prst="rect">
            <a:avLst/>
          </a:prstGeom>
          <a:noFill/>
          <a:ln w="9360">
            <a:solidFill>
              <a:srgbClr val="f06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brochure_ilo"/>
          <p:cNvPicPr/>
          <p:nvPr/>
        </p:nvPicPr>
        <p:blipFill>
          <a:blip r:embed="rId5"/>
          <a:stretch/>
        </p:blipFill>
        <p:spPr>
          <a:xfrm>
            <a:off x="8001000" y="21420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2"/>
          <a:srcRect l="25202" t="27265" r="41353" b="30085"/>
          <a:stretch/>
        </p:blipFill>
        <p:spPr>
          <a:xfrm>
            <a:off x="758880" y="1628640"/>
            <a:ext cx="2949480" cy="30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UWNGYPHCUIYD"/>
          <p:cNvPicPr/>
          <p:nvPr/>
        </p:nvPicPr>
        <p:blipFill>
          <a:blip r:embed="rId3"/>
          <a:srcRect l="0" t="9453" r="0" b="7463"/>
          <a:stretch/>
        </p:blipFill>
        <p:spPr>
          <a:xfrm>
            <a:off x="9360" y="126828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156360" y="6356520"/>
            <a:ext cx="253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58FE-E392-4373-9A5E-F8FFCDECAA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211640" y="1882800"/>
            <a:ext cx="4753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253f"/>
                </a:solidFill>
                <a:latin typeface="Arial"/>
              </a:rPr>
              <a:t>Comprehensive training “toolkit”: </a:t>
            </a: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Gender Sensitive Business Management; Women Entrepreneurs’ Associations capacity building; Service provider’s capacity building to understand the needs of women entrepreneurs; and Gender self-checks for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A network of over 300 accredite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10253f"/>
                </a:solidFill>
                <a:latin typeface="Arial"/>
              </a:rPr>
              <a:t>250.000+ women entrepreneurs supported in 25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21 country assessments on the environment for women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9 African countries organize “Month of the Woman Entrepreneur”. In 2013,  over 3.5 million people were reached in East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79280" y="4653000"/>
            <a:ext cx="3962520" cy="1554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Laos, after training and support by IL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men entrepreneurs increased  monthly profits by 50% and sales quadrup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Lesotho, Malawi and South Africa Women Entrepreneurs’ Associations increased membership by an average of 20% and service provision by 37.5% after receiving support from I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098000" y="639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lo.org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5726160"/>
            <a:ext cx="8463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ED programme: levels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92880" cy="4286160"/>
          </a:xfrm>
          <a:prstGeom prst="rect">
            <a:avLst/>
          </a:prstGeom>
          <a:ln w="0">
            <a:noFill/>
          </a:ln>
        </p:spPr>
      </p:pic>
      <p:sp>
        <p:nvSpPr>
          <p:cNvPr id="135" name="Left-Right Arrow 4"/>
          <p:cNvSpPr/>
          <p:nvPr/>
        </p:nvSpPr>
        <p:spPr>
          <a:xfrm>
            <a:off x="428760" y="4572000"/>
            <a:ext cx="8286480" cy="121428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Gender mainstreaming of PSD &amp; all relevant policies &amp;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7610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The ILO WED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46160" y="944640"/>
            <a:ext cx="8559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78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ILO WED outreach-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378432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419720" y="738360"/>
            <a:ext cx="47671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"/>
          <p:cNvPicPr/>
          <p:nvPr/>
        </p:nvPicPr>
        <p:blipFill>
          <a:blip r:embed="rId1"/>
          <a:srcRect l="18322" t="40091" r="45191" b="23196"/>
          <a:stretch/>
        </p:blipFill>
        <p:spPr>
          <a:xfrm>
            <a:off x="6750000" y="1844640"/>
            <a:ext cx="1998720" cy="15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1800360"/>
            <a:ext cx="2268360" cy="1699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7429" t="12247" r="4759" b="12111"/>
          <a:stretch/>
        </p:blipFill>
        <p:spPr>
          <a:xfrm>
            <a:off x="5838840" y="4883040"/>
            <a:ext cx="27716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295200" y="4883040"/>
            <a:ext cx="2189160" cy="164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bundling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"/>
          <p:cNvPicPr/>
          <p:nvPr/>
        </p:nvPicPr>
        <p:blipFill>
          <a:blip r:embed="rId5"/>
          <a:stretch/>
        </p:blipFill>
        <p:spPr>
          <a:xfrm>
            <a:off x="603360" y="1566720"/>
            <a:ext cx="8358120" cy="502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 rot="16200000">
            <a:off x="8053560" y="574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Photo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Havisham/Panos Pictures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67120" y="486900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der sensitive management training, 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835280" y="37162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dvocacy,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6"/>
          <a:stretch/>
        </p:blipFill>
        <p:spPr>
          <a:xfrm>
            <a:off x="3624120" y="3357720"/>
            <a:ext cx="2243160" cy="14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Outreach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rom 2008 to 2011 over 96’000 reached (80% women); In Cambodia 10’650 people trained in management, financial education(70% women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Enterprise development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Vietnam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2011-2016 SME plan included revisions to be made based on ILO-WED assessment recommenda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roup formation and associations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esotho and Mozambique WEAs reported a 20% increase in membership and a 37.5% increase in service provision to members. In  Ethiopia 35% and in Uganda 6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Profits, sales and job creation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 WE’s sales quadrupled and profits grew by 50%. In Mozambique and South Africa, WEs saw profits increase by 49% and created an additional 0.7 new jobs per busi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ender equality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, 11% more of husbands reported taking on household ch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Changes at policy leve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Vietnam’s new 5-year SME Development Plan. In Cambodia updated National Rectangular Strategies (part of the National Social Development Plan for 2009-201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20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IV. 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699920"/>
            <a:ext cx="810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Two pronged approach is key: targeted approach and removing systemic barr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Rights based approach – women knowing their rights and claiming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Working with existing structures to gender mainstream (including people with disabilit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2920" y="1623960"/>
            <a:ext cx="79563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arriers are a challenge to move – takes time &amp; efforts - find champions/opinion leaders and work together towards changing attitu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et achievable goals &amp; milestones with partners so progress can be seen, measured and momentum maintai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468360" y="549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IV. LESSONS LEARNED (Ct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1125360"/>
            <a:ext cx="7272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LO.ORG/WE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and OUR ILO-WED FACEBOO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PSON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OSELOSADA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a7.sphotos.ak.fbcdn.net/hphotos-ak-ash4/315331_258152597549485_255371007827644_845783_1308016669_n.jpg"/>
          <p:cNvPicPr/>
          <p:nvPr/>
        </p:nvPicPr>
        <p:blipFill>
          <a:blip r:embed="rId4"/>
          <a:srcRect l="0" t="0" r="0" b="13291"/>
          <a:stretch/>
        </p:blipFill>
        <p:spPr>
          <a:xfrm>
            <a:off x="6516720" y="1600200"/>
            <a:ext cx="207000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3791" t="0" r="0" b="15669"/>
          <a:stretch/>
        </p:blipFill>
        <p:spPr>
          <a:xfrm>
            <a:off x="266760" y="2297160"/>
            <a:ext cx="2597040" cy="170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rochure_ilo"/>
          <p:cNvPicPr/>
          <p:nvPr/>
        </p:nvPicPr>
        <p:blipFill>
          <a:blip r:embed="rId6"/>
          <a:stretch/>
        </p:blipFill>
        <p:spPr>
          <a:xfrm>
            <a:off x="7885080" y="11592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pectives on Women’s  Entrepreneurship and Employment in the Greater Caribbe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mean by the Greater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a well researched theme by Prof. Norman Gir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him, it is really the ACS, but even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ed for Job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cent financial crisis, there have been over 200 million persons who have become unemployed.  Of this total, over 75 million are you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were seriously affected by the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oday, around the world, over 200 million women are either starting or running their own busi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ver 100 million employs others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ing in women is not only the right thing to do but also the smart thing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 latin American and Caribbean Study – WE Grow- Unlocking the Growth potential of Women Entrepreneurs in Latin America and the caribbe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are getting into businesses due to opporttunities created and not due to necess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get into business du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onomic independ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udy analyses high growth women entrepreneurs in Argentina, Brazil, Chile, Colombia, Costa Rica, Jamaica, Mexico, Peru and Uruguay whose businesses grew by more than 20% in at least 3 years and compares them to those of their male counterp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400 entrepreneurs were surve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Women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ng and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skills training and education ( especially for non traditional 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land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government support in contracts for SMEs ( e.g Fair share programme like those in T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in Support of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gender specific training for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and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womens’ access to financial services and information on how to rais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fair share of government SME contracts go to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 women and young girls to business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FORM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617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hy W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96720" y="927000"/>
            <a:ext cx="842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UWNGYPHCUIYD"/>
          <p:cNvPicPr/>
          <p:nvPr/>
        </p:nvPicPr>
        <p:blipFill>
          <a:blip r:embed="rId1"/>
          <a:srcRect l="0" t="9453" r="0" b="7463"/>
          <a:stretch/>
        </p:blipFill>
        <p:spPr>
          <a:xfrm>
            <a:off x="9360" y="127476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 4" descr=""/>
          <p:cNvPicPr/>
          <p:nvPr/>
        </p:nvPicPr>
        <p:blipFill>
          <a:blip r:embed="rId2"/>
          <a:stretch/>
        </p:blipFill>
        <p:spPr>
          <a:xfrm>
            <a:off x="1828800" y="2560680"/>
            <a:ext cx="6566040" cy="368136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" descr=""/>
          <p:cNvPicPr/>
          <p:nvPr/>
        </p:nvPicPr>
        <p:blipFill>
          <a:blip r:embed="rId3"/>
          <a:stretch/>
        </p:blipFill>
        <p:spPr>
          <a:xfrm>
            <a:off x="457200" y="1560600"/>
            <a:ext cx="8302680" cy="518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56:08Z</dcterms:created>
  <dc:creator>g5ifp_seed</dc:creator>
  <dc:description/>
  <dc:language>en-US</dc:language>
  <cp:lastModifiedBy>Amanda Charles</cp:lastModifiedBy>
  <dcterms:modified xsi:type="dcterms:W3CDTF">2014-10-31T20:32:46Z</dcterms:modified>
  <cp:revision>56</cp:revision>
  <dc:subject/>
  <dc:title>Slide 1</dc:title>
</cp:coreProperties>
</file>