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7.jpeg" ContentType="image/jpe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9AC3-C6B1-435F-81F9-E983D67BC6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1DCD-D572-419B-9C8A-1435CB8441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88B2-C6BD-43A6-A7DF-54F1099F9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59DC-A7BF-4F65-8200-C5104F4C6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B25C-F50F-42B1-A0E4-27149CE88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In our projects we promote </a:t>
            </a:r>
            <a:r>
              <a:rPr b="1" lang="fr-CH" sz="1200" spc="-1" strike="noStrike">
                <a:solidFill>
                  <a:srgbClr val="000000"/>
                </a:solidFill>
                <a:latin typeface="Calibri"/>
              </a:rPr>
              <a:t>clustering supports around the specific needs of women entrepreneurs. M</a:t>
            </a: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anagement training alone may not work for all w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Calibri"/>
              </a:rPr>
              <a:t>For populations facing multiple barriers, due to poverty, race, disability, more holistic approaches can lead to greater empowerment returns as women build multiple assets at the sam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6712-D4C3-4B49-BC49-86EE6BBA5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DC4D-E13F-4ABD-BF03-C33F929EC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C1B-1CDE-4F01-85D2-74DC5862C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129C-1DC8-4DA6-87E0-9B6E00F22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7F0F-AEBE-40CF-BA6C-D67A9209B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C510-4B53-4997-921C-35079342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ED11-2858-4B37-98F0-0302D844A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5028-921C-45AE-9808-9DBEF73878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2B9-10B4-46F3-A553-99C527F0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784-3412-4DED-97AC-09CCFF2E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150-FB47-4076-84B0-E9E5E573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0F4-C1AE-4E08-8D8D-AA776FBA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C959-87E7-400C-8009-4D52B241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041B-A427-4F07-A7AB-32759AD8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6FCA-81BA-4AC1-BCB1-42F06422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986C-C1F8-4174-B79B-E49BB8FF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A0F9-C325-4C5B-AFCE-68FEC740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0DDF-8198-4FE0-83CE-1FE657A0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B938-B159-42BB-B592-2C91D9F6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65A-10AE-43F8-9247-4ECFF6FB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4D33-3EB8-4B6D-9613-DADBAF4B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AA8E-FDAC-4A12-8B93-20FD7DAD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9971-F278-46BB-9B9C-FCAEF126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84B6-78F1-44A6-B66B-F812B103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622C-2B83-4F90-84CF-6C1EEB12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1C5-D414-4D53-8AFF-ECFF09C2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970-DCEF-4473-B7AE-90DB68C1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68C-81F6-4196-95EB-0B6EAEEC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D7C-3C28-4F3A-815C-4E7C5077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B2B-DA22-496E-95F2-3244A15C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ECC-4589-4B7F-A5DC-27C57FDE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360-12C8-4A49-BB01-7897BA13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D053-AF36-4C4C-84BD-541817598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3" descr="WED_logo"/>
          <p:cNvPicPr/>
          <p:nvPr/>
        </p:nvPicPr>
        <p:blipFill>
          <a:blip r:embed="rId2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5" name="Object 1" descr=""/>
          <p:cNvPicPr/>
          <p:nvPr/>
        </p:nvPicPr>
        <p:blipFill>
          <a:blip r:embed="rId3"/>
          <a:srcRect l="0" t="0" r="0" b="-46269"/>
          <a:stretch/>
        </p:blipFill>
        <p:spPr>
          <a:xfrm>
            <a:off x="730080" y="703440"/>
            <a:ext cx="8496360" cy="56880"/>
          </a:xfrm>
          <a:prstGeom prst="rect">
            <a:avLst/>
          </a:prstGeom>
          <a:ln w="0">
            <a:noFill/>
          </a:ln>
        </p:spPr>
      </p:pic>
      <p:pic>
        <p:nvPicPr>
          <p:cNvPr id="6" name="Object 1" descr=""/>
          <p:cNvPicPr/>
          <p:nvPr/>
        </p:nvPicPr>
        <p:blipFill>
          <a:blip r:embed="rId4"/>
          <a:srcRect l="0" t="0" r="0" b="-46269"/>
          <a:stretch/>
        </p:blipFill>
        <p:spPr>
          <a:xfrm>
            <a:off x="0" y="701640"/>
            <a:ext cx="431640" cy="5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WED_logo"/>
          <p:cNvPicPr/>
          <p:nvPr/>
        </p:nvPicPr>
        <p:blipFill>
          <a:blip r:embed="rId2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44" name="Object 1" descr=""/>
          <p:cNvPicPr/>
          <p:nvPr/>
        </p:nvPicPr>
        <p:blipFill>
          <a:blip r:embed="rId3"/>
          <a:srcRect l="0" t="0" r="0" b="-46269"/>
          <a:stretch/>
        </p:blipFill>
        <p:spPr>
          <a:xfrm>
            <a:off x="730080" y="703440"/>
            <a:ext cx="8496360" cy="56880"/>
          </a:xfrm>
          <a:prstGeom prst="rect">
            <a:avLst/>
          </a:prstGeom>
          <a:ln w="0">
            <a:noFill/>
          </a:ln>
        </p:spPr>
      </p:pic>
      <p:pic>
        <p:nvPicPr>
          <p:cNvPr id="45" name="Object 1" descr=""/>
          <p:cNvPicPr/>
          <p:nvPr/>
        </p:nvPicPr>
        <p:blipFill>
          <a:blip r:embed="rId4"/>
          <a:srcRect l="0" t="0" r="0" b="-46269"/>
          <a:stretch/>
        </p:blipFill>
        <p:spPr>
          <a:xfrm>
            <a:off x="0" y="701640"/>
            <a:ext cx="431640" cy="5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WED_logo"/>
          <p:cNvPicPr/>
          <p:nvPr/>
        </p:nvPicPr>
        <p:blipFill>
          <a:blip r:embed="rId5"/>
          <a:stretch/>
        </p:blipFill>
        <p:spPr>
          <a:xfrm>
            <a:off x="0" y="0"/>
            <a:ext cx="2054160" cy="851040"/>
          </a:xfrm>
          <a:prstGeom prst="rect">
            <a:avLst/>
          </a:prstGeom>
          <a:ln w="0">
            <a:noFill/>
          </a:ln>
        </p:spPr>
      </p:pic>
      <p:pic>
        <p:nvPicPr>
          <p:cNvPr id="47" name="Object 1" descr=""/>
          <p:cNvPicPr/>
          <p:nvPr/>
        </p:nvPicPr>
        <p:blipFill>
          <a:blip r:embed="rId6"/>
          <a:srcRect l="0" t="0" r="0" b="-46269"/>
          <a:stretch/>
        </p:blipFill>
        <p:spPr>
          <a:xfrm>
            <a:off x="684360" y="714240"/>
            <a:ext cx="8459640" cy="57240"/>
          </a:xfrm>
          <a:prstGeom prst="rect">
            <a:avLst/>
          </a:prstGeom>
          <a:ln w="0">
            <a:noFill/>
          </a:ln>
        </p:spPr>
      </p:pic>
      <p:pic>
        <p:nvPicPr>
          <p:cNvPr id="48" name="Object 1" descr=""/>
          <p:cNvPicPr/>
          <p:nvPr/>
        </p:nvPicPr>
        <p:blipFill>
          <a:blip r:embed="rId7"/>
          <a:srcRect l="0" t="0" r="0" b="-46269"/>
          <a:stretch/>
        </p:blipFill>
        <p:spPr>
          <a:xfrm>
            <a:off x="0" y="701640"/>
            <a:ext cx="468360" cy="58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B307-07FF-4B04-9905-3462488E5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hyperlink" Target="http://www.ilo.org/wed" TargetMode="External"/><Relationship Id="rId5" Type="http://schemas.openxmlformats.org/officeDocument/2006/relationships/hyperlink" Target="http://www.ilo.org/w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lo.org/WED" TargetMode="External"/><Relationship Id="rId2" Type="http://schemas.openxmlformats.org/officeDocument/2006/relationships/hyperlink" Target="mailto:SIMPSON@ILO.ORG" TargetMode="External"/><Relationship Id="rId3" Type="http://schemas.openxmlformats.org/officeDocument/2006/relationships/hyperlink" Target="mailto:ROSELOSADA@ILO.ORG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rochure_rodape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1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WED_logo"/>
          <p:cNvPicPr/>
          <p:nvPr/>
        </p:nvPicPr>
        <p:blipFill>
          <a:blip r:embed="rId2"/>
          <a:stretch/>
        </p:blipFill>
        <p:spPr>
          <a:xfrm>
            <a:off x="2428920" y="969840"/>
            <a:ext cx="4214880" cy="174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643200" y="3143160"/>
            <a:ext cx="1800360" cy="1800360"/>
          </a:xfrm>
          <a:prstGeom prst="rect">
            <a:avLst/>
          </a:prstGeom>
          <a:noFill/>
          <a:ln w="9360">
            <a:solidFill>
              <a:srgbClr val="b3c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DSC_2053"/>
          <p:cNvPicPr/>
          <p:nvPr/>
        </p:nvPicPr>
        <p:blipFill>
          <a:blip r:embed="rId3"/>
          <a:stretch/>
        </p:blipFill>
        <p:spPr>
          <a:xfrm>
            <a:off x="5786280" y="4286160"/>
            <a:ext cx="2786400" cy="1852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4557600" y="3843360"/>
            <a:ext cx="1800360" cy="1800360"/>
          </a:xfrm>
          <a:prstGeom prst="rect">
            <a:avLst/>
          </a:prstGeom>
          <a:noFill/>
          <a:ln w="9360">
            <a:solidFill>
              <a:srgbClr val="f8c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:\EMP_SEED\WED (current)\Photos\6.jpg"/>
          <p:cNvPicPr/>
          <p:nvPr/>
        </p:nvPicPr>
        <p:blipFill>
          <a:blip r:embed="rId4"/>
          <a:stretch/>
        </p:blipFill>
        <p:spPr>
          <a:xfrm>
            <a:off x="857160" y="3929040"/>
            <a:ext cx="268128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343320" y="4343400"/>
            <a:ext cx="1800360" cy="1800360"/>
          </a:xfrm>
          <a:prstGeom prst="rect">
            <a:avLst/>
          </a:prstGeom>
          <a:noFill/>
          <a:ln w="9360">
            <a:solidFill>
              <a:srgbClr val="f06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brochure_ilo"/>
          <p:cNvPicPr/>
          <p:nvPr/>
        </p:nvPicPr>
        <p:blipFill>
          <a:blip r:embed="rId5"/>
          <a:stretch/>
        </p:blipFill>
        <p:spPr>
          <a:xfrm>
            <a:off x="8001000" y="214200"/>
            <a:ext cx="857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"/>
          <p:cNvPicPr/>
          <p:nvPr/>
        </p:nvPicPr>
        <p:blipFill>
          <a:blip r:embed="rId1"/>
          <a:stretch/>
        </p:blipFill>
        <p:spPr>
          <a:xfrm>
            <a:off x="46080" y="190440"/>
            <a:ext cx="2263680" cy="93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"/>
          <p:cNvPicPr/>
          <p:nvPr/>
        </p:nvPicPr>
        <p:blipFill>
          <a:blip r:embed="rId2"/>
          <a:srcRect l="25202" t="27265" r="41353" b="30085"/>
          <a:stretch/>
        </p:blipFill>
        <p:spPr>
          <a:xfrm>
            <a:off x="758880" y="1628640"/>
            <a:ext cx="2949480" cy="3008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UWNGYPHCUIYD"/>
          <p:cNvPicPr/>
          <p:nvPr/>
        </p:nvPicPr>
        <p:blipFill>
          <a:blip r:embed="rId3"/>
          <a:srcRect l="0" t="9453" r="0" b="7463"/>
          <a:stretch/>
        </p:blipFill>
        <p:spPr>
          <a:xfrm>
            <a:off x="9360" y="1268280"/>
            <a:ext cx="9144000" cy="21600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"/>
          <p:cNvSpPr/>
          <p:nvPr/>
        </p:nvSpPr>
        <p:spPr>
          <a:xfrm>
            <a:off x="6156360" y="6356520"/>
            <a:ext cx="2530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5AEF-625A-4807-B011-6F06CC27BDC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4211640" y="1882800"/>
            <a:ext cx="475308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253f"/>
                </a:solidFill>
                <a:latin typeface="Arial"/>
              </a:rPr>
              <a:t>Comprehensive training “toolkit”: </a:t>
            </a: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Gender Sensitive Business Management; Women Entrepreneurs’ Associations capacity building; Service provider’s capacity building to understand the needs of women entrepreneurs; and Gender self-checks for Service Provi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A network of over 300 accredited tr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10253f"/>
                </a:solidFill>
                <a:latin typeface="Arial"/>
              </a:rPr>
              <a:t>250.000+ women entrepreneurs supported in 25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21 country assessments on the environment for women entrepren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9 African countries organize “Month of the Woman Entrepreneur”. In 2013,  over 3.5 million people were reached in East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79280" y="4653000"/>
            <a:ext cx="3962520" cy="155412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Laos, after training and support by IL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omen entrepreneurs increased  monthly profits by 50% and sales quadrup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 Lesotho, Malawi and South Africa Women Entrepreneurs’ Associations increased membership by an average of 20% and service provision by 37.5% after receiving support from I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1547640" y="189000"/>
            <a:ext cx="759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Women’s Entrepreneurship Develo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The ILO-WED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1098000" y="639288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ilo.org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/w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5726160"/>
            <a:ext cx="8463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WED programme: levels of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192880" cy="4286160"/>
          </a:xfrm>
          <a:prstGeom prst="rect">
            <a:avLst/>
          </a:prstGeom>
          <a:ln w="0">
            <a:noFill/>
          </a:ln>
        </p:spPr>
      </p:pic>
      <p:sp>
        <p:nvSpPr>
          <p:cNvPr id="135" name="Left-Right Arrow 4"/>
          <p:cNvSpPr/>
          <p:nvPr/>
        </p:nvSpPr>
        <p:spPr>
          <a:xfrm>
            <a:off x="428760" y="4572000"/>
            <a:ext cx="8286480" cy="121428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Calibri"/>
              </a:rPr>
              <a:t>Gender mainstreaming of PSD &amp; all relevant policies &amp; program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57610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The ILO WED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146160" y="944640"/>
            <a:ext cx="855972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5378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ILO WED outreach- </a:t>
            </a: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27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71680" y="1484280"/>
            <a:ext cx="3784320" cy="31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Rectangle 2" descr=""/>
          <p:cNvPicPr/>
          <p:nvPr/>
        </p:nvPicPr>
        <p:blipFill>
          <a:blip r:embed="rId2"/>
          <a:stretch/>
        </p:blipFill>
        <p:spPr>
          <a:xfrm>
            <a:off x="4419720" y="738360"/>
            <a:ext cx="476712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3" descr=""/>
          <p:cNvPicPr/>
          <p:nvPr/>
        </p:nvPicPr>
        <p:blipFill>
          <a:blip r:embed="rId1"/>
          <a:srcRect l="18322" t="40091" r="45191" b="23196"/>
          <a:stretch/>
        </p:blipFill>
        <p:spPr>
          <a:xfrm>
            <a:off x="6750000" y="1844640"/>
            <a:ext cx="1998720" cy="1542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250920" y="1800360"/>
            <a:ext cx="2268360" cy="1699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3"/>
          <a:srcRect l="7429" t="12247" r="4759" b="12111"/>
          <a:stretch/>
        </p:blipFill>
        <p:spPr>
          <a:xfrm>
            <a:off x="5838840" y="4883040"/>
            <a:ext cx="2771640" cy="1790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4"/>
          <a:stretch/>
        </p:blipFill>
        <p:spPr>
          <a:xfrm>
            <a:off x="295200" y="4883040"/>
            <a:ext cx="2189160" cy="1641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bundling of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Content Placeholder 3" descr=""/>
          <p:cNvPicPr/>
          <p:nvPr/>
        </p:nvPicPr>
        <p:blipFill>
          <a:blip r:embed="rId5"/>
          <a:stretch/>
        </p:blipFill>
        <p:spPr>
          <a:xfrm>
            <a:off x="603360" y="1566720"/>
            <a:ext cx="8358120" cy="5023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 rot="16200000">
            <a:off x="8053560" y="57492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Photo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Havisham/Panos Pictures</a:t>
            </a: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867120" y="4869000"/>
            <a:ext cx="200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der sensitive management training, finan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teracy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1835280" y="3716280"/>
            <a:ext cx="15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Advocacy, Ne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&amp;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6"/>
          <a:stretch/>
        </p:blipFill>
        <p:spPr>
          <a:xfrm>
            <a:off x="3624120" y="3357720"/>
            <a:ext cx="2243160" cy="148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Examples of WED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863360"/>
            <a:ext cx="8434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Outreach: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rom 2008 to 2011 over 96’000 reached (80% women); In Cambodia 10’650 people trained in management, financial education(70% women)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Enterprise development: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Vietnam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ew 2011-2016 SME plan included revisions to be made based on ILO-WED assessment recommenda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Group formation and associations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esotho and Mozambique WEAs reported a 20% increase in membership and a 37.5% increase in service provision to members. In  Ethiopia 35% and in Uganda 6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Examples of WED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863360"/>
            <a:ext cx="8434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Profits, sales and job creation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ao PDR WE’s sales quadrupled and profits grew by 50%. In Mozambique and South Africa, WEs saw profits increase by 49% and created an additional 0.7 new jobs per busine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Gender equality: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n Lao PDR, 11% more of husbands reported taking on household cho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e46c0a"/>
                </a:solidFill>
                <a:latin typeface="Calibri"/>
              </a:rPr>
              <a:t>Changes at policy level: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Vietnam’s new 5-year SME Development Plan. In Cambodia updated National Rectangular Strategies (part of the National Social Development Plan for 2009-201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7207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46c0a"/>
                </a:solidFill>
                <a:latin typeface="Cambria"/>
              </a:rPr>
              <a:t>IV. 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640" y="1699920"/>
            <a:ext cx="81043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Two pronged approach is key: targeted approach and removing systemic barri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Rights based approach – women knowing their rights and claiming th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500" spc="-1" strike="noStrike">
                <a:solidFill>
                  <a:srgbClr val="000000"/>
                </a:solidFill>
                <a:latin typeface="Calibri"/>
              </a:rPr>
              <a:t>Working with existing structures to gender mainstream (including people with disabiliti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02920" y="1623960"/>
            <a:ext cx="7956360" cy="38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Barriers are a challenge to move – takes time &amp; efforts - find champions/opinion leaders and work together towards changing attitu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Set achievable goals &amp; milestones with partners so progress can be seen, measured and momentum maintain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468360" y="54936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e46c0a"/>
                </a:solidFill>
                <a:latin typeface="Cambria"/>
              </a:rPr>
              <a:t>IV. LESSONS LEARNED (Ctd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755640" y="1125360"/>
            <a:ext cx="727236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500" spc="-1" strike="noStrike">
                <a:solidFill>
                  <a:srgbClr val="e46c0a"/>
                </a:solidFill>
                <a:latin typeface="Cambria"/>
              </a:rPr>
              <a:t>THANK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VISIT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ILO.ORG/WED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and OUR ILO-WED FACEBOOK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SIMPSON@ILO.ORG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fr-CH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ROSELOSADA@ILO.ORG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http://a7.sphotos.ak.fbcdn.net/hphotos-ak-ash4/315331_258152597549485_255371007827644_845783_1308016669_n.jpg"/>
          <p:cNvPicPr/>
          <p:nvPr/>
        </p:nvPicPr>
        <p:blipFill>
          <a:blip r:embed="rId4"/>
          <a:srcRect l="0" t="0" r="0" b="13291"/>
          <a:stretch/>
        </p:blipFill>
        <p:spPr>
          <a:xfrm>
            <a:off x="6516720" y="1600200"/>
            <a:ext cx="2070000" cy="2692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5"/>
          <a:srcRect l="3791" t="0" r="0" b="15669"/>
          <a:stretch/>
        </p:blipFill>
        <p:spPr>
          <a:xfrm>
            <a:off x="266760" y="2297160"/>
            <a:ext cx="2597040" cy="170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brochure_ilo"/>
          <p:cNvPicPr/>
          <p:nvPr/>
        </p:nvPicPr>
        <p:blipFill>
          <a:blip r:embed="rId6"/>
          <a:stretch/>
        </p:blipFill>
        <p:spPr>
          <a:xfrm>
            <a:off x="7885080" y="115920"/>
            <a:ext cx="8571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pectives on Women’s  Entrepreneurship and Employment in the Greater Caribbe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we mean by the Greater Caribb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as a well researched theme by Prof. Norman Gir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him, it is really the ACS, but even more than th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ed for Job Cre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recent financial crisis, there have been over 200 million persons who have become unemployed.  Of this total, over 75 million are youth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men were seriously affected by the cri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oday, around the world, over 200 million women are either starting or running their own busi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over 100 million employs others in th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sting in women is not only the right thing to do but also the smart thing to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ent latin American and Caribbean Study – WE Grow- Unlocking the Growth potential of Women Entrepreneurs in Latin America and the caribbe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men are getting into businesses due to opporttunities created and not due to necess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men get into business due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ss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conomic independe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ob cre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udy analyses high growth women entrepreneurs in Argentina, Brazil, Chile, Colombia, Costa Rica, Jamaica, Mexico, Peru and Uruguay whose businesses grew by more than 20% in at least 3 years and compares them to those of their male counterpar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 400 entrepreneurs were survey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to Women Entrepren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financing and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skills training and education ( especially for non traditional ventu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ictions on land 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government support in contracts for SMEs ( e.g Fair share programme like those in T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cies in Support of Women Entrepren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gender specific training for women entrepren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land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womens’ access to financial services and information on how to rais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fair share of government SME contracts go to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ose women and young girls to business trai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 FORM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617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Why W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3280" y="530280"/>
            <a:ext cx="81835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Table 3" descr=""/>
          <p:cNvPicPr/>
          <p:nvPr/>
        </p:nvPicPr>
        <p:blipFill>
          <a:blip r:embed="rId1"/>
          <a:stretch/>
        </p:blipFill>
        <p:spPr>
          <a:xfrm>
            <a:off x="396720" y="927000"/>
            <a:ext cx="84232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1547640" y="189000"/>
            <a:ext cx="759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Women’s Entrepreneurship Develo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17375e"/>
                </a:solidFill>
                <a:latin typeface="Calibri"/>
              </a:rPr>
              <a:t>The ILO-WED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UWNGYPHCUIYD"/>
          <p:cNvPicPr/>
          <p:nvPr/>
        </p:nvPicPr>
        <p:blipFill>
          <a:blip r:embed="rId1"/>
          <a:srcRect l="0" t="9453" r="0" b="7463"/>
          <a:stretch/>
        </p:blipFill>
        <p:spPr>
          <a:xfrm>
            <a:off x="9360" y="1274760"/>
            <a:ext cx="9144000" cy="216000"/>
          </a:xfrm>
          <a:prstGeom prst="rect">
            <a:avLst/>
          </a:prstGeom>
          <a:ln w="0">
            <a:noFill/>
          </a:ln>
        </p:spPr>
      </p:pic>
      <p:pic>
        <p:nvPicPr>
          <p:cNvPr id="122" name="Diagram 4" descr=""/>
          <p:cNvPicPr/>
          <p:nvPr/>
        </p:nvPicPr>
        <p:blipFill>
          <a:blip r:embed="rId2"/>
          <a:stretch/>
        </p:blipFill>
        <p:spPr>
          <a:xfrm>
            <a:off x="1828800" y="2560680"/>
            <a:ext cx="6566040" cy="3681360"/>
          </a:xfrm>
          <a:prstGeom prst="rect">
            <a:avLst/>
          </a:prstGeom>
          <a:ln w="0">
            <a:noFill/>
          </a:ln>
        </p:spPr>
      </p:pic>
      <p:pic>
        <p:nvPicPr>
          <p:cNvPr id="123" name="Diagram 1" descr=""/>
          <p:cNvPicPr/>
          <p:nvPr/>
        </p:nvPicPr>
        <p:blipFill>
          <a:blip r:embed="rId3"/>
          <a:stretch/>
        </p:blipFill>
        <p:spPr>
          <a:xfrm>
            <a:off x="457200" y="1560600"/>
            <a:ext cx="8302680" cy="518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46080" y="190440"/>
            <a:ext cx="2263680" cy="93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2:56:08Z</dcterms:created>
  <dc:creator>g5ifp_seed</dc:creator>
  <dc:description/>
  <dc:language>en-US</dc:language>
  <cp:lastModifiedBy>Amanda Charles</cp:lastModifiedBy>
  <dcterms:modified xsi:type="dcterms:W3CDTF">2014-10-31T20:32:46Z</dcterms:modified>
  <cp:revision>56</cp:revision>
  <dc:subject/>
  <dc:title>Slide 1</dc:title>
</cp:coreProperties>
</file>