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7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C205-B66E-4370-8C33-D34A612EE9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F827-F056-4313-A322-E7E00DA10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B428-1917-4214-9CAF-E1BFE7355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A27C-661E-4551-A658-9497FEA7C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6D8-C4B9-45CB-9860-0DCEB33D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In our projects we promote </a:t>
            </a:r>
            <a:r>
              <a:rPr b="1" lang="fr-CH" sz="1200" spc="-1" strike="noStrike">
                <a:solidFill>
                  <a:srgbClr val="000000"/>
                </a:solidFill>
                <a:latin typeface="Calibri"/>
              </a:rPr>
              <a:t>clustering supports around the specific needs of women entrepreneurs. M</a:t>
            </a: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anagement training alone may not work for all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For populations facing multiple barriers, due to poverty, race, disability, more holistic approaches can lead to greater empowerment returns as women build multiple assets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AE89-3388-4905-AA38-26384EBAD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865B-66BC-4AC3-AEE6-9182A3A3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34FE-87BE-45F0-BC37-A4C7EBCE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2A32-1C2B-482D-8BEE-D96B5ED81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BCCE-2356-4569-ADBD-2C3CA812B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9321-C500-4B3A-BEE6-C1B0EBFAE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B125-D64B-4EA5-B2BB-0E48267D6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6E25-3C27-4B5B-93E2-AC6ABF53E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D43-D7CE-49A3-82B5-617E6BD8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3FC-0F1D-4465-B66D-27BAA5D0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29A-C10D-471A-AAFD-A81F4D92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B3A-FA4A-4CF5-AA07-ABCFAFE3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FE0C-145D-4C54-888F-B939BFA0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7BB0-52E2-4942-81B0-FE6F39D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587F-ABC9-445A-9F22-1F48D4B9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7233-2AF5-4820-8625-B0511C8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58AC-CA80-48EB-8124-30E6C1AD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4691-F3EB-4B47-AB21-298D1387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11A5-B124-49E4-851A-B491746B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8CF-DF89-4C58-8800-2E3C2F02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0241-3841-4482-9781-6188D07A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8A6E-3686-4FBD-9BFB-EC1BFD0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79A3-4C19-471A-BFAF-FDA2F095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8148-FE72-45C2-96F5-DFC8AE2D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ACB9-F480-4F04-AC6D-F5D91D12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E41-23C2-49D8-8018-374CCD54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378-49AB-4C03-A00E-032DAFC4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59C-9351-417A-A6AF-D6F1244A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A21-6867-482D-9419-D2BB8015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D0D-0809-4CD9-B23A-CD18701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5F8-1A1D-444A-9F57-4C6BB0C2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709-57D6-4063-A126-06ECB2BD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03AD-27D6-43C6-9979-87CBDB822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5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6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4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45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WED_logo"/>
          <p:cNvPicPr/>
          <p:nvPr/>
        </p:nvPicPr>
        <p:blipFill>
          <a:blip r:embed="rId5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7" name="Object 1" descr=""/>
          <p:cNvPicPr/>
          <p:nvPr/>
        </p:nvPicPr>
        <p:blipFill>
          <a:blip r:embed="rId6"/>
          <a:srcRect l="0" t="0" r="0" b="-46269"/>
          <a:stretch/>
        </p:blipFill>
        <p:spPr>
          <a:xfrm>
            <a:off x="684360" y="714240"/>
            <a:ext cx="8459640" cy="57240"/>
          </a:xfrm>
          <a:prstGeom prst="rect">
            <a:avLst/>
          </a:prstGeom>
          <a:ln w="0">
            <a:noFill/>
          </a:ln>
        </p:spPr>
      </p:pic>
      <p:pic>
        <p:nvPicPr>
          <p:cNvPr id="48" name="Object 1" descr=""/>
          <p:cNvPicPr/>
          <p:nvPr/>
        </p:nvPicPr>
        <p:blipFill>
          <a:blip r:embed="rId7"/>
          <a:srcRect l="0" t="0" r="0" b="-46269"/>
          <a:stretch/>
        </p:blipFill>
        <p:spPr>
          <a:xfrm>
            <a:off x="0" y="701640"/>
            <a:ext cx="468360" cy="5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BB49-2E33-4BCB-A2BE-56D1F7CE6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hyperlink" Target="http://www.ilo.org/wed" TargetMode="External"/><Relationship Id="rId5" Type="http://schemas.openxmlformats.org/officeDocument/2006/relationships/hyperlink" Target="http://www.ilo.org/w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lo.org/WED" TargetMode="External"/><Relationship Id="rId2" Type="http://schemas.openxmlformats.org/officeDocument/2006/relationships/hyperlink" Target="mailto:SIMPSON@ILO.ORG" TargetMode="External"/><Relationship Id="rId3" Type="http://schemas.openxmlformats.org/officeDocument/2006/relationships/hyperlink" Target="mailto:ROSELOSADA@ILO.OR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rochure_rodape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1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WED_logo"/>
          <p:cNvPicPr/>
          <p:nvPr/>
        </p:nvPicPr>
        <p:blipFill>
          <a:blip r:embed="rId2"/>
          <a:stretch/>
        </p:blipFill>
        <p:spPr>
          <a:xfrm>
            <a:off x="2428920" y="969840"/>
            <a:ext cx="4214880" cy="174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643200" y="3143160"/>
            <a:ext cx="1800360" cy="1800360"/>
          </a:xfrm>
          <a:prstGeom prst="rect">
            <a:avLst/>
          </a:prstGeom>
          <a:noFill/>
          <a:ln w="9360">
            <a:solidFill>
              <a:srgbClr val="b3c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SC_2053"/>
          <p:cNvPicPr/>
          <p:nvPr/>
        </p:nvPicPr>
        <p:blipFill>
          <a:blip r:embed="rId3"/>
          <a:stretch/>
        </p:blipFill>
        <p:spPr>
          <a:xfrm>
            <a:off x="5786280" y="4286160"/>
            <a:ext cx="2786400" cy="1852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557600" y="3843360"/>
            <a:ext cx="1800360" cy="1800360"/>
          </a:xfrm>
          <a:prstGeom prst="rect">
            <a:avLst/>
          </a:prstGeom>
          <a:noFill/>
          <a:ln w="9360">
            <a:solidFill>
              <a:srgbClr val="f8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:\EMP_SEED\WED (current)\Photos\6.jpg"/>
          <p:cNvPicPr/>
          <p:nvPr/>
        </p:nvPicPr>
        <p:blipFill>
          <a:blip r:embed="rId4"/>
          <a:stretch/>
        </p:blipFill>
        <p:spPr>
          <a:xfrm>
            <a:off x="857160" y="3929040"/>
            <a:ext cx="268128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343320" y="4343400"/>
            <a:ext cx="1800360" cy="1800360"/>
          </a:xfrm>
          <a:prstGeom prst="rect">
            <a:avLst/>
          </a:prstGeom>
          <a:noFill/>
          <a:ln w="9360">
            <a:solidFill>
              <a:srgbClr val="f06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brochure_ilo"/>
          <p:cNvPicPr/>
          <p:nvPr/>
        </p:nvPicPr>
        <p:blipFill>
          <a:blip r:embed="rId5"/>
          <a:stretch/>
        </p:blipFill>
        <p:spPr>
          <a:xfrm>
            <a:off x="8001000" y="21420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"/>
          <p:cNvPicPr/>
          <p:nvPr/>
        </p:nvPicPr>
        <p:blipFill>
          <a:blip r:embed="rId1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2"/>
          <a:srcRect l="25202" t="27265" r="41353" b="30085"/>
          <a:stretch/>
        </p:blipFill>
        <p:spPr>
          <a:xfrm>
            <a:off x="758880" y="1628640"/>
            <a:ext cx="2949480" cy="300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UWNGYPHCUIYD"/>
          <p:cNvPicPr/>
          <p:nvPr/>
        </p:nvPicPr>
        <p:blipFill>
          <a:blip r:embed="rId3"/>
          <a:srcRect l="0" t="9453" r="0" b="7463"/>
          <a:stretch/>
        </p:blipFill>
        <p:spPr>
          <a:xfrm>
            <a:off x="9360" y="126828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156360" y="6356520"/>
            <a:ext cx="253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AC23-933B-4B3D-ACC6-35558F2CB1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211640" y="1882800"/>
            <a:ext cx="47530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253f"/>
                </a:solidFill>
                <a:latin typeface="Arial"/>
              </a:rPr>
              <a:t>Comprehensive training “toolkit”: </a:t>
            </a: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Gender Sensitive Business Management; Women Entrepreneurs’ Associations capacity building; Service provider’s capacity building to understand the needs of women entrepreneurs; and Gender self-checks for Service Provi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A network of over 300 accredited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10253f"/>
                </a:solidFill>
                <a:latin typeface="Arial"/>
              </a:rPr>
              <a:t>250.000+ women entrepreneurs supported in 25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21 country assessments on the environment for women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9 African countries organize “Month of the Woman Entrepreneur”. In 2013,  over 3.5 million people were reached in East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79280" y="4653000"/>
            <a:ext cx="3962520" cy="155412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Laos, after training and support by IL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omen entrepreneurs increased  monthly profits by 50% and sales quadrup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 Lesotho, Malawi and South Africa Women Entrepreneurs’ Associations increased membership by an average of 20% and service provision by 37.5% after receiving support from I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098000" y="639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ilo.org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w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5726160"/>
            <a:ext cx="8463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ED programme: levels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92880" cy="4286160"/>
          </a:xfrm>
          <a:prstGeom prst="rect">
            <a:avLst/>
          </a:prstGeom>
          <a:ln w="0">
            <a:noFill/>
          </a:ln>
        </p:spPr>
      </p:pic>
      <p:sp>
        <p:nvSpPr>
          <p:cNvPr id="135" name="Left-Right Arrow 4"/>
          <p:cNvSpPr/>
          <p:nvPr/>
        </p:nvSpPr>
        <p:spPr>
          <a:xfrm>
            <a:off x="428760" y="4572000"/>
            <a:ext cx="8286480" cy="121428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Gender mainstreaming of PSD &amp; all relevant policies &amp;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57610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The ILO WED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146160" y="944640"/>
            <a:ext cx="85597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5378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ILO WED outreach-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7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71680" y="1484280"/>
            <a:ext cx="378432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Rectangle 2" descr=""/>
          <p:cNvPicPr/>
          <p:nvPr/>
        </p:nvPicPr>
        <p:blipFill>
          <a:blip r:embed="rId2"/>
          <a:stretch/>
        </p:blipFill>
        <p:spPr>
          <a:xfrm>
            <a:off x="4419720" y="738360"/>
            <a:ext cx="476712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"/>
          <p:cNvPicPr/>
          <p:nvPr/>
        </p:nvPicPr>
        <p:blipFill>
          <a:blip r:embed="rId1"/>
          <a:srcRect l="18322" t="40091" r="45191" b="23196"/>
          <a:stretch/>
        </p:blipFill>
        <p:spPr>
          <a:xfrm>
            <a:off x="6750000" y="1844640"/>
            <a:ext cx="1998720" cy="15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50920" y="1800360"/>
            <a:ext cx="2268360" cy="1699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rcRect l="7429" t="12247" r="4759" b="12111"/>
          <a:stretch/>
        </p:blipFill>
        <p:spPr>
          <a:xfrm>
            <a:off x="5838840" y="4883040"/>
            <a:ext cx="2771640" cy="1790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4"/>
          <a:stretch/>
        </p:blipFill>
        <p:spPr>
          <a:xfrm>
            <a:off x="295200" y="4883040"/>
            <a:ext cx="2189160" cy="1641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bundling of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Content Placeholder 3" descr=""/>
          <p:cNvPicPr/>
          <p:nvPr/>
        </p:nvPicPr>
        <p:blipFill>
          <a:blip r:embed="rId5"/>
          <a:stretch/>
        </p:blipFill>
        <p:spPr>
          <a:xfrm>
            <a:off x="603360" y="1566720"/>
            <a:ext cx="8358120" cy="5023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 rot="16200000">
            <a:off x="8053560" y="5749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Photo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Havisham/Panos Pictures</a:t>
            </a: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867120" y="4869000"/>
            <a:ext cx="200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der sensitive management training, 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cy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835280" y="371628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dvocacy, Ne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6"/>
          <a:stretch/>
        </p:blipFill>
        <p:spPr>
          <a:xfrm>
            <a:off x="3624120" y="3357720"/>
            <a:ext cx="2243160" cy="148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Outreach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rom 2008 to 2011 over 96’000 reached (80% women); In Cambodia 10’650 people trained in management, financial education(70% women)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Enterprise development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Vietnam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2011-2016 SME plan included revisions to be made based on ILO-WED assessment recommenda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roup formation and associations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esotho and Mozambique WEAs reported a 20% increase in membership and a 37.5% increase in service provision to members. In  Ethiopia 35% and in Uganda 6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Profits, sales and job creation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 WE’s sales quadrupled and profits grew by 50%. In Mozambique and South Africa, WEs saw profits increase by 49% and created an additional 0.7 new jobs per busine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ender equality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, 11% more of husbands reported taking on household cho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Changes at policy level: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Vietnam’s new 5-year SME Development Plan. In Cambodia updated National Rectangular Strategies (part of the National Social Development Plan for 2009-201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7207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IV. 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699920"/>
            <a:ext cx="8104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Two pronged approach is key: targeted approach and removing systemic barri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Rights based approach – women knowing their rights and claiming th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Working with existing structures to gender mainstream (including people with disabiliti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02920" y="1623960"/>
            <a:ext cx="79563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Barriers are a challenge to move – takes time &amp; efforts - find champions/opinion leaders and work together towards changing attitu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Set achievable goals &amp; milestones with partners so progress can be seen, measured and momentum maintain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468360" y="54936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IV. LESSONS LEARNED (Ct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755640" y="1125360"/>
            <a:ext cx="727236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THANK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ILO.ORG/WED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and OUR ILO-WED FACEBOOK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IMPSON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ROSELOSADA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http://a7.sphotos.ak.fbcdn.net/hphotos-ak-ash4/315331_258152597549485_255371007827644_845783_1308016669_n.jpg"/>
          <p:cNvPicPr/>
          <p:nvPr/>
        </p:nvPicPr>
        <p:blipFill>
          <a:blip r:embed="rId4"/>
          <a:srcRect l="0" t="0" r="0" b="13291"/>
          <a:stretch/>
        </p:blipFill>
        <p:spPr>
          <a:xfrm>
            <a:off x="6516720" y="1600200"/>
            <a:ext cx="2070000" cy="2692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5"/>
          <a:srcRect l="3791" t="0" r="0" b="15669"/>
          <a:stretch/>
        </p:blipFill>
        <p:spPr>
          <a:xfrm>
            <a:off x="266760" y="2297160"/>
            <a:ext cx="2597040" cy="170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brochure_ilo"/>
          <p:cNvPicPr/>
          <p:nvPr/>
        </p:nvPicPr>
        <p:blipFill>
          <a:blip r:embed="rId6"/>
          <a:stretch/>
        </p:blipFill>
        <p:spPr>
          <a:xfrm>
            <a:off x="7885080" y="11592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pectives on Women’s  Entrepreneurship and Employment in the Greater Caribbe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mean by the Greater Caribb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as a well researched theme by Prof. Norman Gir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him, it is really the ACS, but even more than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ed for Job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recent financial crisis, there have been over 200 million persons who have become unemployed.  Of this total, over 75 million are youth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en were seriously affected by the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oday, around the world, over 200 million women are either starting or running their own busi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over 100 million employs others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ing in women is not only the right thing to do but also the smart thing to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 latin American and Caribbean Study – WE Grow- Unlocking the Growth potential of Women Entrepreneurs in Latin America and the caribbe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are getting into businesses due to opporttunities created and not due to necess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get into business du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onomic independe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ob cre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udy analyses high growth women entrepreneurs in Argentina, Brazil, Chile, Colombia, Costa Rica, Jamaica, Mexico, Peru and Uruguay whose businesses grew by more than 20% in at least 3 years and compares them to those of their male counterpa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400 entrepreneurs were survey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to Women Entrepren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financing and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skills training and education ( especially for non traditional ven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ions on land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government support in contracts for SMEs ( e.g Fair share programme like those in T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ies in Support of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gender specific training for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land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womens’ access to financial services and information on how to rais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fair share of government SME contracts go to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se women and young girls to business trai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FORM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617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hy W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3280" y="530280"/>
            <a:ext cx="81835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Table 3" descr=""/>
          <p:cNvPicPr/>
          <p:nvPr/>
        </p:nvPicPr>
        <p:blipFill>
          <a:blip r:embed="rId1"/>
          <a:stretch/>
        </p:blipFill>
        <p:spPr>
          <a:xfrm>
            <a:off x="396720" y="927000"/>
            <a:ext cx="8423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UWNGYPHCUIYD"/>
          <p:cNvPicPr/>
          <p:nvPr/>
        </p:nvPicPr>
        <p:blipFill>
          <a:blip r:embed="rId1"/>
          <a:srcRect l="0" t="9453" r="0" b="7463"/>
          <a:stretch/>
        </p:blipFill>
        <p:spPr>
          <a:xfrm>
            <a:off x="9360" y="127476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122" name="Diagram 4" descr=""/>
          <p:cNvPicPr/>
          <p:nvPr/>
        </p:nvPicPr>
        <p:blipFill>
          <a:blip r:embed="rId2"/>
          <a:stretch/>
        </p:blipFill>
        <p:spPr>
          <a:xfrm>
            <a:off x="1828800" y="2560680"/>
            <a:ext cx="6566040" cy="3681360"/>
          </a:xfrm>
          <a:prstGeom prst="rect">
            <a:avLst/>
          </a:prstGeom>
          <a:ln w="0">
            <a:noFill/>
          </a:ln>
        </p:spPr>
      </p:pic>
      <p:pic>
        <p:nvPicPr>
          <p:cNvPr id="123" name="Diagram 1" descr=""/>
          <p:cNvPicPr/>
          <p:nvPr/>
        </p:nvPicPr>
        <p:blipFill>
          <a:blip r:embed="rId3"/>
          <a:stretch/>
        </p:blipFill>
        <p:spPr>
          <a:xfrm>
            <a:off x="457200" y="1560600"/>
            <a:ext cx="8302680" cy="518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2:56:08Z</dcterms:created>
  <dc:creator>g5ifp_seed</dc:creator>
  <dc:description/>
  <dc:language>en-US</dc:language>
  <cp:lastModifiedBy>Amanda Charles</cp:lastModifiedBy>
  <dcterms:modified xsi:type="dcterms:W3CDTF">2014-10-31T20:32:46Z</dcterms:modified>
  <cp:revision>56</cp:revision>
  <dc:subject/>
  <dc:title>Slide 1</dc:title>
</cp:coreProperties>
</file>